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520B7B6-CDBB-49B6-8B60-6C547066EC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14640" y="7632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view: Communities of Practice and Collaboration with SAP Net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ervice.sap.com/ep" TargetMode="External"/><Relationship Id="rId3" Type="http://schemas.openxmlformats.org/officeDocument/2006/relationships/hyperlink" Target="http://service.sap.com/ep" TargetMode="External"/><Relationship Id="rId4" Type="http://schemas.openxmlformats.org/officeDocument/2006/relationships/hyperlink" Target="http://service.sap.com/ep" TargetMode="External"/><Relationship Id="rId5" Type="http://schemas.openxmlformats.org/officeDocument/2006/relationships/hyperlink" Target="http://service.sap.com/ep" TargetMode="External"/><Relationship Id="rId6" Type="http://schemas.openxmlformats.org/officeDocument/2006/relationships/hyperlink" Target="http://service.sap.com/ep" TargetMode="External"/><Relationship Id="rId7" Type="http://schemas.openxmlformats.org/officeDocument/2006/relationships/hyperlink" Target="http://service.sap.com/ep" TargetMode="External"/><Relationship Id="rId8" Type="http://schemas.openxmlformats.org/officeDocument/2006/relationships/hyperlink" Target="http://service.sap.com/ep" TargetMode="External"/><Relationship Id="rId9" Type="http://schemas.openxmlformats.org/officeDocument/2006/relationships/hyperlink" Target="http://service.sap.com/ep" TargetMode="External"/><Relationship Id="rId10" Type="http://schemas.openxmlformats.org/officeDocument/2006/relationships/hyperlink" Target="https://websmp101.sap-ag.de/~sapidb/011000358700000604782003E/10282003CollwithSAPNW_EP60.ppt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1.wmf"/><Relationship Id="rId40" Type="http://schemas.openxmlformats.org/officeDocument/2006/relationships/image" Target="../media/image2.wm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1.wmf"/><Relationship Id="rId44" Type="http://schemas.openxmlformats.org/officeDocument/2006/relationships/image" Target="../media/image2.wmf"/><Relationship Id="rId45" Type="http://schemas.openxmlformats.org/officeDocument/2006/relationships/image" Target="../media/image1.wmf"/><Relationship Id="rId46" Type="http://schemas.openxmlformats.org/officeDocument/2006/relationships/image" Target="../media/image2.wmf"/><Relationship Id="rId47" Type="http://schemas.openxmlformats.org/officeDocument/2006/relationships/image" Target="../media/image1.wmf"/><Relationship Id="rId48" Type="http://schemas.openxmlformats.org/officeDocument/2006/relationships/image" Target="../media/image2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1.wmf"/><Relationship Id="rId52" Type="http://schemas.openxmlformats.org/officeDocument/2006/relationships/image" Target="../media/image2.wmf"/><Relationship Id="rId53" Type="http://schemas.openxmlformats.org/officeDocument/2006/relationships/image" Target="../media/image1.wmf"/><Relationship Id="rId54" Type="http://schemas.openxmlformats.org/officeDocument/2006/relationships/image" Target="../media/image2.wmf"/><Relationship Id="rId55" Type="http://schemas.openxmlformats.org/officeDocument/2006/relationships/image" Target="../media/image1.wmf"/><Relationship Id="rId56" Type="http://schemas.openxmlformats.org/officeDocument/2006/relationships/image" Target="../media/image2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1.wmf"/><Relationship Id="rId64" Type="http://schemas.openxmlformats.org/officeDocument/2006/relationships/image" Target="../media/image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2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1.wmf"/><Relationship Id="rId72" Type="http://schemas.openxmlformats.org/officeDocument/2006/relationships/image" Target="../media/image2.wmf"/><Relationship Id="rId73" Type="http://schemas.openxmlformats.org/officeDocument/2006/relationships/image" Target="../media/image1.wmf"/><Relationship Id="rId74" Type="http://schemas.openxmlformats.org/officeDocument/2006/relationships/image" Target="../media/image2.wmf"/><Relationship Id="rId75" Type="http://schemas.openxmlformats.org/officeDocument/2006/relationships/image" Target="../media/image1.wmf"/><Relationship Id="rId76" Type="http://schemas.openxmlformats.org/officeDocument/2006/relationships/image" Target="../media/image2.wmf"/><Relationship Id="rId77" Type="http://schemas.openxmlformats.org/officeDocument/2006/relationships/image" Target="../media/image1.wmf"/><Relationship Id="rId78" Type="http://schemas.openxmlformats.org/officeDocument/2006/relationships/image" Target="../media/image2.wmf"/><Relationship Id="rId79" Type="http://schemas.openxmlformats.org/officeDocument/2006/relationships/image" Target="../media/image1.wmf"/><Relationship Id="rId80" Type="http://schemas.openxmlformats.org/officeDocument/2006/relationships/image" Target="../media/image2.wmf"/><Relationship Id="rId81" Type="http://schemas.openxmlformats.org/officeDocument/2006/relationships/image" Target="../media/image1.wmf"/><Relationship Id="rId82" Type="http://schemas.openxmlformats.org/officeDocument/2006/relationships/image" Target="../media/image2.wmf"/><Relationship Id="rId83" Type="http://schemas.openxmlformats.org/officeDocument/2006/relationships/image" Target="../media/image1.wmf"/><Relationship Id="rId84" Type="http://schemas.openxmlformats.org/officeDocument/2006/relationships/image" Target="../media/image2.wmf"/><Relationship Id="rId85" Type="http://schemas.openxmlformats.org/officeDocument/2006/relationships/image" Target="../media/image1.wmf"/><Relationship Id="rId86" Type="http://schemas.openxmlformats.org/officeDocument/2006/relationships/image" Target="../media/image2.wmf"/><Relationship Id="rId87" Type="http://schemas.openxmlformats.org/officeDocument/2006/relationships/image" Target="../media/image1.wmf"/><Relationship Id="rId88" Type="http://schemas.openxmlformats.org/officeDocument/2006/relationships/image" Target="../media/image2.wmf"/><Relationship Id="rId89" Type="http://schemas.openxmlformats.org/officeDocument/2006/relationships/image" Target="../media/image1.wmf"/><Relationship Id="rId90" Type="http://schemas.openxmlformats.org/officeDocument/2006/relationships/image" Target="../media/image2.wmf"/><Relationship Id="rId91" Type="http://schemas.openxmlformats.org/officeDocument/2006/relationships/image" Target="../media/image1.wmf"/><Relationship Id="rId92" Type="http://schemas.openxmlformats.org/officeDocument/2006/relationships/image" Target="../media/image2.wmf"/><Relationship Id="rId93" Type="http://schemas.openxmlformats.org/officeDocument/2006/relationships/image" Target="../media/image1.wmf"/><Relationship Id="rId94" Type="http://schemas.openxmlformats.org/officeDocument/2006/relationships/image" Target="../media/image2.wmf"/><Relationship Id="rId95" Type="http://schemas.openxmlformats.org/officeDocument/2006/relationships/image" Target="../media/image1.wmf"/><Relationship Id="rId96" Type="http://schemas.openxmlformats.org/officeDocument/2006/relationships/image" Target="../media/image2.wmf"/><Relationship Id="rId97" Type="http://schemas.openxmlformats.org/officeDocument/2006/relationships/image" Target="../media/image1.wmf"/><Relationship Id="rId98" Type="http://schemas.openxmlformats.org/officeDocument/2006/relationships/image" Target="../media/image2.wmf"/><Relationship Id="rId99" Type="http://schemas.openxmlformats.org/officeDocument/2006/relationships/image" Target="../media/image1.wmf"/><Relationship Id="rId100" Type="http://schemas.openxmlformats.org/officeDocument/2006/relationships/image" Target="../media/image2.wmf"/><Relationship Id="rId101" Type="http://schemas.openxmlformats.org/officeDocument/2006/relationships/image" Target="../media/image2.wmf"/><Relationship Id="rId102" Type="http://schemas.openxmlformats.org/officeDocument/2006/relationships/image" Target="../media/image1.wmf"/><Relationship Id="rId103" Type="http://schemas.openxmlformats.org/officeDocument/2006/relationships/image" Target="../media/image1.wmf"/><Relationship Id="rId104" Type="http://schemas.openxmlformats.org/officeDocument/2006/relationships/image" Target="../media/image2.wmf"/><Relationship Id="rId105" Type="http://schemas.openxmlformats.org/officeDocument/2006/relationships/image" Target="../media/image1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2.wmf"/><Relationship Id="rId109" Type="http://schemas.openxmlformats.org/officeDocument/2006/relationships/image" Target="../media/image1.wmf"/><Relationship Id="rId110" Type="http://schemas.openxmlformats.org/officeDocument/2006/relationships/image" Target="../media/image2.wmf"/><Relationship Id="rId111" Type="http://schemas.openxmlformats.org/officeDocument/2006/relationships/image" Target="../media/image1.wmf"/><Relationship Id="rId112" Type="http://schemas.openxmlformats.org/officeDocument/2006/relationships/image" Target="../media/image2.wmf"/><Relationship Id="rId113" Type="http://schemas.openxmlformats.org/officeDocument/2006/relationships/image" Target="../media/image1.wmf"/><Relationship Id="rId114" Type="http://schemas.openxmlformats.org/officeDocument/2006/relationships/image" Target="../media/image2.wmf"/><Relationship Id="rId115" Type="http://schemas.openxmlformats.org/officeDocument/2006/relationships/image" Target="../media/image1.wmf"/><Relationship Id="rId116" Type="http://schemas.openxmlformats.org/officeDocument/2006/relationships/image" Target="../media/image2.wmf"/><Relationship Id="rId117" Type="http://schemas.openxmlformats.org/officeDocument/2006/relationships/image" Target="../media/image1.wmf"/><Relationship Id="rId118" Type="http://schemas.openxmlformats.org/officeDocument/2006/relationships/image" Target="../media/image2.wmf"/><Relationship Id="rId119" Type="http://schemas.openxmlformats.org/officeDocument/2006/relationships/image" Target="../media/image1.wmf"/><Relationship Id="rId120" Type="http://schemas.openxmlformats.org/officeDocument/2006/relationships/image" Target="../media/image2.wmf"/><Relationship Id="rId121" Type="http://schemas.openxmlformats.org/officeDocument/2006/relationships/image" Target="../media/image1.wmf"/><Relationship Id="rId122" Type="http://schemas.openxmlformats.org/officeDocument/2006/relationships/image" Target="../media/image2.wmf"/><Relationship Id="rId123" Type="http://schemas.openxmlformats.org/officeDocument/2006/relationships/image" Target="../media/image1.wmf"/><Relationship Id="rId124" Type="http://schemas.openxmlformats.org/officeDocument/2006/relationships/image" Target="../media/image2.wmf"/><Relationship Id="rId125" Type="http://schemas.openxmlformats.org/officeDocument/2006/relationships/image" Target="../media/image1.wmf"/><Relationship Id="rId126" Type="http://schemas.openxmlformats.org/officeDocument/2006/relationships/image" Target="../media/image2.wmf"/><Relationship Id="rId127" Type="http://schemas.openxmlformats.org/officeDocument/2006/relationships/image" Target="../media/image1.wmf"/><Relationship Id="rId128" Type="http://schemas.openxmlformats.org/officeDocument/2006/relationships/image" Target="../media/image2.wmf"/><Relationship Id="rId129" Type="http://schemas.openxmlformats.org/officeDocument/2006/relationships/image" Target="../media/image1.wmf"/><Relationship Id="rId130" Type="http://schemas.openxmlformats.org/officeDocument/2006/relationships/image" Target="../media/image2.wmf"/><Relationship Id="rId131" Type="http://schemas.openxmlformats.org/officeDocument/2006/relationships/image" Target="../media/image1.wmf"/><Relationship Id="rId132" Type="http://schemas.openxmlformats.org/officeDocument/2006/relationships/image" Target="../media/image2.wmf"/><Relationship Id="rId133" Type="http://schemas.openxmlformats.org/officeDocument/2006/relationships/image" Target="../media/image1.wmf"/><Relationship Id="rId134" Type="http://schemas.openxmlformats.org/officeDocument/2006/relationships/image" Target="../media/image2.wmf"/><Relationship Id="rId135" Type="http://schemas.openxmlformats.org/officeDocument/2006/relationships/image" Target="../media/image2.wmf"/><Relationship Id="rId136" Type="http://schemas.openxmlformats.org/officeDocument/2006/relationships/image" Target="../media/image1.wmf"/><Relationship Id="rId1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of practice and Collaboration with SAP Net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3240" y="1741320"/>
            <a:ext cx="7848360" cy="36360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ing community - forum to help each other solve work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ractice community - develop and share bes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community - organize and manage a body of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community - cross organizational collaboration for creative id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68640" y="4219560"/>
            <a:ext cx="424800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: 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3683160"/>
            <a:ext cx="189684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5600" y="2421000"/>
            <a:ext cx="3213000" cy="723960"/>
          </a:xfrm>
          <a:prstGeom prst="triangle">
            <a:avLst>
              <a:gd name="adj" fmla="val 52782"/>
            </a:avLst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5421240"/>
            <a:ext cx="2448000" cy="417600"/>
          </a:xfrm>
          <a:prstGeom prst="flowChartAlternateProcess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1680" y="1523880"/>
            <a:ext cx="1406520" cy="609840"/>
          </a:xfrm>
          <a:prstGeom prst="roundRect">
            <a:avLst>
              <a:gd name="adj" fmla="val 50000"/>
            </a:avLst>
          </a:prstGeom>
          <a:solidFill>
            <a:srgbClr val="eaeaea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4168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736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960" y="2475000"/>
            <a:ext cx="1548000" cy="7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fo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200" y="3362400"/>
            <a:ext cx="1625760" cy="100656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Software Development  for electron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5292720"/>
            <a:ext cx="1548000" cy="6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 Excellen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594480" y="2070000"/>
            <a:ext cx="2270160" cy="1170000"/>
          </a:xfrm>
          <a:custGeom>
            <a:avLst/>
            <a:gdLst>
              <a:gd name="textAreaLeft" fmla="*/ 0 w 2270160"/>
              <a:gd name="textAreaRight" fmla="*/ 2270160 w 2270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roc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4520" y="3755880"/>
            <a:ext cx="2109960" cy="89244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5" y="0"/>
                </a:lnTo>
                <a:lnTo>
                  <a:pt x="21600" y="10800"/>
                </a:lnTo>
                <a:lnTo>
                  <a:pt x="18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44520" y="5160960"/>
            <a:ext cx="2109960" cy="70632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3" y="0"/>
                </a:lnTo>
                <a:lnTo>
                  <a:pt x="21600" y="10800"/>
                </a:lnTo>
                <a:lnTo>
                  <a:pt x="19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341460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7972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62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1720" y="340848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343224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0640" y="342900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832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390920"/>
            <a:ext cx="1468080" cy="68112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1498680"/>
            <a:ext cx="8013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weaknesses, exploit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what the technology supports well and what it doe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ore than on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eans of communication. Don’t limit yourself to just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609480" y="1955880"/>
            <a:ext cx="7010280" cy="4190400"/>
            <a:chOff x="609480" y="1955880"/>
            <a:chExt cx="7010280" cy="4190400"/>
          </a:xfrm>
        </p:grpSpPr>
        <p:sp>
          <p:nvSpPr>
            <p:cNvPr id="316" name=""/>
            <p:cNvSpPr/>
            <p:nvPr/>
          </p:nvSpPr>
          <p:spPr>
            <a:xfrm>
              <a:off x="6132960" y="2661120"/>
              <a:ext cx="482400" cy="366840"/>
            </a:xfrm>
            <a:custGeom>
              <a:avLst/>
              <a:gdLst/>
              <a:ahLst/>
              <a:rect l="l" t="t" r="r" b="b"/>
              <a:pathLst>
                <a:path w="297" h="289">
                  <a:moveTo>
                    <a:pt x="297" y="0"/>
                  </a:moveTo>
                  <a:lnTo>
                    <a:pt x="0" y="164"/>
                  </a:lnTo>
                  <a:lnTo>
                    <a:pt x="297" y="289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2239200"/>
              <a:ext cx="3152520" cy="1697400"/>
            </a:xfrm>
            <a:custGeom>
              <a:avLst/>
              <a:gdLst/>
              <a:ahLst/>
              <a:rect l="l" t="t" r="r" b="b"/>
              <a:pathLst>
                <a:path w="1940" h="1336">
                  <a:moveTo>
                    <a:pt x="971" y="1336"/>
                  </a:moveTo>
                  <a:lnTo>
                    <a:pt x="996" y="1333"/>
                  </a:lnTo>
                  <a:lnTo>
                    <a:pt x="1020" y="1333"/>
                  </a:lnTo>
                  <a:lnTo>
                    <a:pt x="1045" y="1333"/>
                  </a:lnTo>
                  <a:lnTo>
                    <a:pt x="1069" y="1331"/>
                  </a:lnTo>
                  <a:lnTo>
                    <a:pt x="1091" y="1328"/>
                  </a:lnTo>
                  <a:lnTo>
                    <a:pt x="1115" y="1325"/>
                  </a:lnTo>
                  <a:lnTo>
                    <a:pt x="1140" y="1323"/>
                  </a:lnTo>
                  <a:lnTo>
                    <a:pt x="1167" y="1320"/>
                  </a:lnTo>
                  <a:lnTo>
                    <a:pt x="1189" y="1314"/>
                  </a:lnTo>
                  <a:lnTo>
                    <a:pt x="1211" y="1312"/>
                  </a:lnTo>
                  <a:lnTo>
                    <a:pt x="1235" y="1306"/>
                  </a:lnTo>
                  <a:lnTo>
                    <a:pt x="1260" y="1304"/>
                  </a:lnTo>
                  <a:lnTo>
                    <a:pt x="1279" y="1295"/>
                  </a:lnTo>
                  <a:lnTo>
                    <a:pt x="1303" y="1293"/>
                  </a:lnTo>
                  <a:lnTo>
                    <a:pt x="1325" y="1284"/>
                  </a:lnTo>
                  <a:lnTo>
                    <a:pt x="1347" y="1282"/>
                  </a:lnTo>
                  <a:lnTo>
                    <a:pt x="1368" y="1274"/>
                  </a:lnTo>
                  <a:lnTo>
                    <a:pt x="1390" y="1265"/>
                  </a:lnTo>
                  <a:lnTo>
                    <a:pt x="1409" y="1257"/>
                  </a:lnTo>
                  <a:lnTo>
                    <a:pt x="1431" y="1252"/>
                  </a:lnTo>
                  <a:lnTo>
                    <a:pt x="1450" y="1241"/>
                  </a:lnTo>
                  <a:lnTo>
                    <a:pt x="1472" y="1236"/>
                  </a:lnTo>
                  <a:lnTo>
                    <a:pt x="1491" y="1227"/>
                  </a:lnTo>
                  <a:lnTo>
                    <a:pt x="1513" y="1219"/>
                  </a:lnTo>
                  <a:lnTo>
                    <a:pt x="1529" y="1208"/>
                  </a:lnTo>
                  <a:lnTo>
                    <a:pt x="1548" y="1200"/>
                  </a:lnTo>
                  <a:lnTo>
                    <a:pt x="1567" y="1189"/>
                  </a:lnTo>
                  <a:lnTo>
                    <a:pt x="1586" y="1181"/>
                  </a:lnTo>
                  <a:lnTo>
                    <a:pt x="1603" y="1170"/>
                  </a:lnTo>
                  <a:lnTo>
                    <a:pt x="1619" y="1159"/>
                  </a:lnTo>
                  <a:lnTo>
                    <a:pt x="1638" y="1148"/>
                  </a:lnTo>
                  <a:lnTo>
                    <a:pt x="1654" y="1138"/>
                  </a:lnTo>
                  <a:lnTo>
                    <a:pt x="1671" y="1127"/>
                  </a:lnTo>
                  <a:lnTo>
                    <a:pt x="1687" y="1113"/>
                  </a:lnTo>
                  <a:lnTo>
                    <a:pt x="1700" y="1102"/>
                  </a:lnTo>
                  <a:lnTo>
                    <a:pt x="1717" y="1091"/>
                  </a:lnTo>
                  <a:lnTo>
                    <a:pt x="1730" y="1078"/>
                  </a:lnTo>
                  <a:lnTo>
                    <a:pt x="1744" y="1064"/>
                  </a:lnTo>
                  <a:lnTo>
                    <a:pt x="1758" y="1051"/>
                  </a:lnTo>
                  <a:lnTo>
                    <a:pt x="1771" y="1040"/>
                  </a:lnTo>
                  <a:lnTo>
                    <a:pt x="1785" y="1023"/>
                  </a:lnTo>
                  <a:lnTo>
                    <a:pt x="1798" y="1010"/>
                  </a:lnTo>
                  <a:lnTo>
                    <a:pt x="1809" y="996"/>
                  </a:lnTo>
                  <a:lnTo>
                    <a:pt x="1823" y="983"/>
                  </a:lnTo>
                  <a:lnTo>
                    <a:pt x="1834" y="966"/>
                  </a:lnTo>
                  <a:lnTo>
                    <a:pt x="1845" y="953"/>
                  </a:lnTo>
                  <a:lnTo>
                    <a:pt x="1853" y="939"/>
                  </a:lnTo>
                  <a:lnTo>
                    <a:pt x="1864" y="925"/>
                  </a:lnTo>
                  <a:lnTo>
                    <a:pt x="1872" y="909"/>
                  </a:lnTo>
                  <a:lnTo>
                    <a:pt x="1880" y="895"/>
                  </a:lnTo>
                  <a:lnTo>
                    <a:pt x="1888" y="876"/>
                  </a:lnTo>
                  <a:lnTo>
                    <a:pt x="1896" y="863"/>
                  </a:lnTo>
                  <a:lnTo>
                    <a:pt x="1902" y="846"/>
                  </a:lnTo>
                  <a:lnTo>
                    <a:pt x="1907" y="830"/>
                  </a:lnTo>
                  <a:lnTo>
                    <a:pt x="1915" y="817"/>
                  </a:lnTo>
                  <a:lnTo>
                    <a:pt x="1921" y="800"/>
                  </a:lnTo>
                  <a:lnTo>
                    <a:pt x="1924" y="784"/>
                  </a:lnTo>
                  <a:lnTo>
                    <a:pt x="1929" y="768"/>
                  </a:lnTo>
                  <a:lnTo>
                    <a:pt x="1932" y="749"/>
                  </a:lnTo>
                  <a:lnTo>
                    <a:pt x="1935" y="735"/>
                  </a:lnTo>
                  <a:lnTo>
                    <a:pt x="1937" y="716"/>
                  </a:lnTo>
                  <a:lnTo>
                    <a:pt x="1937" y="700"/>
                  </a:lnTo>
                  <a:lnTo>
                    <a:pt x="1940" y="683"/>
                  </a:lnTo>
                  <a:lnTo>
                    <a:pt x="1940" y="667"/>
                  </a:lnTo>
                  <a:lnTo>
                    <a:pt x="1940" y="648"/>
                  </a:lnTo>
                  <a:lnTo>
                    <a:pt x="1937" y="632"/>
                  </a:lnTo>
                  <a:lnTo>
                    <a:pt x="1937" y="615"/>
                  </a:lnTo>
                  <a:lnTo>
                    <a:pt x="1935" y="599"/>
                  </a:lnTo>
                  <a:lnTo>
                    <a:pt x="1932" y="580"/>
                  </a:lnTo>
                  <a:lnTo>
                    <a:pt x="1929" y="564"/>
                  </a:lnTo>
                  <a:lnTo>
                    <a:pt x="1924" y="547"/>
                  </a:lnTo>
                  <a:lnTo>
                    <a:pt x="1921" y="531"/>
                  </a:lnTo>
                  <a:lnTo>
                    <a:pt x="1915" y="515"/>
                  </a:lnTo>
                  <a:lnTo>
                    <a:pt x="1907" y="498"/>
                  </a:lnTo>
                  <a:lnTo>
                    <a:pt x="1902" y="482"/>
                  </a:lnTo>
                  <a:lnTo>
                    <a:pt x="1896" y="466"/>
                  </a:lnTo>
                  <a:lnTo>
                    <a:pt x="1888" y="452"/>
                  </a:lnTo>
                  <a:lnTo>
                    <a:pt x="1880" y="436"/>
                  </a:lnTo>
                  <a:lnTo>
                    <a:pt x="1872" y="422"/>
                  </a:lnTo>
                  <a:lnTo>
                    <a:pt x="1864" y="408"/>
                  </a:lnTo>
                  <a:lnTo>
                    <a:pt x="1853" y="392"/>
                  </a:lnTo>
                  <a:lnTo>
                    <a:pt x="1845" y="376"/>
                  </a:lnTo>
                  <a:lnTo>
                    <a:pt x="1834" y="362"/>
                  </a:lnTo>
                  <a:lnTo>
                    <a:pt x="1823" y="349"/>
                  </a:lnTo>
                  <a:lnTo>
                    <a:pt x="1809" y="335"/>
                  </a:lnTo>
                  <a:lnTo>
                    <a:pt x="1798" y="319"/>
                  </a:lnTo>
                  <a:lnTo>
                    <a:pt x="1785" y="305"/>
                  </a:lnTo>
                  <a:lnTo>
                    <a:pt x="1771" y="294"/>
                  </a:lnTo>
                  <a:lnTo>
                    <a:pt x="1758" y="281"/>
                  </a:lnTo>
                  <a:lnTo>
                    <a:pt x="1744" y="267"/>
                  </a:lnTo>
                  <a:lnTo>
                    <a:pt x="1730" y="253"/>
                  </a:lnTo>
                  <a:lnTo>
                    <a:pt x="1717" y="243"/>
                  </a:lnTo>
                  <a:lnTo>
                    <a:pt x="1700" y="229"/>
                  </a:lnTo>
                  <a:lnTo>
                    <a:pt x="1687" y="218"/>
                  </a:lnTo>
                  <a:lnTo>
                    <a:pt x="1671" y="204"/>
                  </a:lnTo>
                  <a:lnTo>
                    <a:pt x="1654" y="196"/>
                  </a:lnTo>
                  <a:lnTo>
                    <a:pt x="1638" y="183"/>
                  </a:lnTo>
                  <a:lnTo>
                    <a:pt x="1619" y="172"/>
                  </a:lnTo>
                  <a:lnTo>
                    <a:pt x="1603" y="161"/>
                  </a:lnTo>
                  <a:lnTo>
                    <a:pt x="1586" y="153"/>
                  </a:lnTo>
                  <a:lnTo>
                    <a:pt x="1567" y="142"/>
                  </a:lnTo>
                  <a:lnTo>
                    <a:pt x="1548" y="131"/>
                  </a:lnTo>
                  <a:lnTo>
                    <a:pt x="1529" y="123"/>
                  </a:lnTo>
                  <a:lnTo>
                    <a:pt x="1513" y="115"/>
                  </a:lnTo>
                  <a:lnTo>
                    <a:pt x="1491" y="104"/>
                  </a:lnTo>
                  <a:lnTo>
                    <a:pt x="1472" y="96"/>
                  </a:lnTo>
                  <a:lnTo>
                    <a:pt x="1450" y="87"/>
                  </a:lnTo>
                  <a:lnTo>
                    <a:pt x="1431" y="79"/>
                  </a:lnTo>
                  <a:lnTo>
                    <a:pt x="1409" y="71"/>
                  </a:lnTo>
                  <a:lnTo>
                    <a:pt x="1390" y="66"/>
                  </a:lnTo>
                  <a:lnTo>
                    <a:pt x="1368" y="58"/>
                  </a:lnTo>
                  <a:lnTo>
                    <a:pt x="1347" y="52"/>
                  </a:lnTo>
                  <a:lnTo>
                    <a:pt x="1325" y="44"/>
                  </a:lnTo>
                  <a:lnTo>
                    <a:pt x="1303" y="39"/>
                  </a:lnTo>
                  <a:lnTo>
                    <a:pt x="1279" y="33"/>
                  </a:lnTo>
                  <a:lnTo>
                    <a:pt x="1260" y="30"/>
                  </a:lnTo>
                  <a:lnTo>
                    <a:pt x="1235" y="25"/>
                  </a:lnTo>
                  <a:lnTo>
                    <a:pt x="1211" y="19"/>
                  </a:lnTo>
                  <a:lnTo>
                    <a:pt x="1189" y="17"/>
                  </a:lnTo>
                  <a:lnTo>
                    <a:pt x="1167" y="14"/>
                  </a:lnTo>
                  <a:lnTo>
                    <a:pt x="1140" y="9"/>
                  </a:lnTo>
                  <a:lnTo>
                    <a:pt x="1115" y="9"/>
                  </a:lnTo>
                  <a:lnTo>
                    <a:pt x="1091" y="6"/>
                  </a:lnTo>
                  <a:lnTo>
                    <a:pt x="1069" y="6"/>
                  </a:lnTo>
                  <a:lnTo>
                    <a:pt x="1045" y="0"/>
                  </a:lnTo>
                  <a:lnTo>
                    <a:pt x="1020" y="0"/>
                  </a:lnTo>
                  <a:lnTo>
                    <a:pt x="996" y="0"/>
                  </a:lnTo>
                  <a:lnTo>
                    <a:pt x="971" y="0"/>
                  </a:lnTo>
                  <a:lnTo>
                    <a:pt x="944" y="0"/>
                  </a:lnTo>
                  <a:lnTo>
                    <a:pt x="919" y="0"/>
                  </a:lnTo>
                  <a:lnTo>
                    <a:pt x="895" y="0"/>
                  </a:lnTo>
                  <a:lnTo>
                    <a:pt x="870" y="6"/>
                  </a:lnTo>
                  <a:lnTo>
                    <a:pt x="846" y="6"/>
                  </a:lnTo>
                  <a:lnTo>
                    <a:pt x="821" y="9"/>
                  </a:lnTo>
                  <a:lnTo>
                    <a:pt x="797" y="9"/>
                  </a:lnTo>
                  <a:lnTo>
                    <a:pt x="775" y="14"/>
                  </a:lnTo>
                  <a:lnTo>
                    <a:pt x="751" y="17"/>
                  </a:lnTo>
                  <a:lnTo>
                    <a:pt x="726" y="19"/>
                  </a:lnTo>
                  <a:lnTo>
                    <a:pt x="704" y="25"/>
                  </a:lnTo>
                  <a:lnTo>
                    <a:pt x="680" y="30"/>
                  </a:lnTo>
                  <a:lnTo>
                    <a:pt x="658" y="33"/>
                  </a:lnTo>
                  <a:lnTo>
                    <a:pt x="634" y="39"/>
                  </a:lnTo>
                  <a:lnTo>
                    <a:pt x="612" y="44"/>
                  </a:lnTo>
                  <a:lnTo>
                    <a:pt x="593" y="52"/>
                  </a:lnTo>
                  <a:lnTo>
                    <a:pt x="568" y="58"/>
                  </a:lnTo>
                  <a:lnTo>
                    <a:pt x="549" y="66"/>
                  </a:lnTo>
                  <a:lnTo>
                    <a:pt x="528" y="71"/>
                  </a:lnTo>
                  <a:lnTo>
                    <a:pt x="506" y="79"/>
                  </a:lnTo>
                  <a:lnTo>
                    <a:pt x="484" y="87"/>
                  </a:lnTo>
                  <a:lnTo>
                    <a:pt x="465" y="96"/>
                  </a:lnTo>
                  <a:lnTo>
                    <a:pt x="446" y="104"/>
                  </a:lnTo>
                  <a:lnTo>
                    <a:pt x="427" y="115"/>
                  </a:lnTo>
                  <a:lnTo>
                    <a:pt x="408" y="123"/>
                  </a:lnTo>
                  <a:lnTo>
                    <a:pt x="389" y="131"/>
                  </a:lnTo>
                  <a:lnTo>
                    <a:pt x="370" y="142"/>
                  </a:lnTo>
                  <a:lnTo>
                    <a:pt x="353" y="153"/>
                  </a:lnTo>
                  <a:lnTo>
                    <a:pt x="334" y="161"/>
                  </a:lnTo>
                  <a:lnTo>
                    <a:pt x="315" y="172"/>
                  </a:lnTo>
                  <a:lnTo>
                    <a:pt x="299" y="183"/>
                  </a:lnTo>
                  <a:lnTo>
                    <a:pt x="285" y="196"/>
                  </a:lnTo>
                  <a:lnTo>
                    <a:pt x="266" y="204"/>
                  </a:lnTo>
                  <a:lnTo>
                    <a:pt x="250" y="218"/>
                  </a:lnTo>
                  <a:lnTo>
                    <a:pt x="234" y="229"/>
                  </a:lnTo>
                  <a:lnTo>
                    <a:pt x="220" y="243"/>
                  </a:lnTo>
                  <a:lnTo>
                    <a:pt x="204" y="253"/>
                  </a:lnTo>
                  <a:lnTo>
                    <a:pt x="190" y="267"/>
                  </a:lnTo>
                  <a:lnTo>
                    <a:pt x="176" y="281"/>
                  </a:lnTo>
                  <a:lnTo>
                    <a:pt x="163" y="294"/>
                  </a:lnTo>
                  <a:lnTo>
                    <a:pt x="149" y="305"/>
                  </a:lnTo>
                  <a:lnTo>
                    <a:pt x="138" y="319"/>
                  </a:lnTo>
                  <a:lnTo>
                    <a:pt x="125" y="335"/>
                  </a:lnTo>
                  <a:lnTo>
                    <a:pt x="114" y="349"/>
                  </a:lnTo>
                  <a:lnTo>
                    <a:pt x="103" y="362"/>
                  </a:lnTo>
                  <a:lnTo>
                    <a:pt x="92" y="376"/>
                  </a:lnTo>
                  <a:lnTo>
                    <a:pt x="84" y="392"/>
                  </a:lnTo>
                  <a:lnTo>
                    <a:pt x="73" y="408"/>
                  </a:lnTo>
                  <a:lnTo>
                    <a:pt x="65" y="422"/>
                  </a:lnTo>
                  <a:lnTo>
                    <a:pt x="57" y="436"/>
                  </a:lnTo>
                  <a:lnTo>
                    <a:pt x="46" y="452"/>
                  </a:lnTo>
                  <a:lnTo>
                    <a:pt x="40" y="466"/>
                  </a:lnTo>
                  <a:lnTo>
                    <a:pt x="32" y="482"/>
                  </a:lnTo>
                  <a:lnTo>
                    <a:pt x="27" y="498"/>
                  </a:lnTo>
                  <a:lnTo>
                    <a:pt x="21" y="515"/>
                  </a:lnTo>
                  <a:lnTo>
                    <a:pt x="16" y="531"/>
                  </a:lnTo>
                  <a:lnTo>
                    <a:pt x="13" y="547"/>
                  </a:lnTo>
                  <a:lnTo>
                    <a:pt x="8" y="564"/>
                  </a:lnTo>
                  <a:lnTo>
                    <a:pt x="5" y="580"/>
                  </a:lnTo>
                  <a:lnTo>
                    <a:pt x="2" y="599"/>
                  </a:lnTo>
                  <a:lnTo>
                    <a:pt x="0" y="615"/>
                  </a:lnTo>
                  <a:lnTo>
                    <a:pt x="0" y="632"/>
                  </a:lnTo>
                  <a:lnTo>
                    <a:pt x="0" y="648"/>
                  </a:lnTo>
                  <a:lnTo>
                    <a:pt x="0" y="667"/>
                  </a:lnTo>
                  <a:lnTo>
                    <a:pt x="0" y="683"/>
                  </a:lnTo>
                  <a:lnTo>
                    <a:pt x="0" y="700"/>
                  </a:lnTo>
                  <a:lnTo>
                    <a:pt x="0" y="716"/>
                  </a:lnTo>
                  <a:lnTo>
                    <a:pt x="2" y="735"/>
                  </a:lnTo>
                  <a:lnTo>
                    <a:pt x="5" y="749"/>
                  </a:lnTo>
                  <a:lnTo>
                    <a:pt x="8" y="768"/>
                  </a:lnTo>
                  <a:lnTo>
                    <a:pt x="13" y="784"/>
                  </a:lnTo>
                  <a:lnTo>
                    <a:pt x="16" y="800"/>
                  </a:lnTo>
                  <a:lnTo>
                    <a:pt x="21" y="817"/>
                  </a:lnTo>
                  <a:lnTo>
                    <a:pt x="27" y="830"/>
                  </a:lnTo>
                  <a:lnTo>
                    <a:pt x="32" y="846"/>
                  </a:lnTo>
                  <a:lnTo>
                    <a:pt x="40" y="863"/>
                  </a:lnTo>
                  <a:lnTo>
                    <a:pt x="46" y="876"/>
                  </a:lnTo>
                  <a:lnTo>
                    <a:pt x="57" y="895"/>
                  </a:lnTo>
                  <a:lnTo>
                    <a:pt x="65" y="909"/>
                  </a:lnTo>
                  <a:lnTo>
                    <a:pt x="73" y="925"/>
                  </a:lnTo>
                  <a:lnTo>
                    <a:pt x="84" y="939"/>
                  </a:lnTo>
                  <a:lnTo>
                    <a:pt x="92" y="953"/>
                  </a:lnTo>
                  <a:lnTo>
                    <a:pt x="103" y="966"/>
                  </a:lnTo>
                  <a:lnTo>
                    <a:pt x="114" y="983"/>
                  </a:lnTo>
                  <a:lnTo>
                    <a:pt x="125" y="996"/>
                  </a:lnTo>
                  <a:lnTo>
                    <a:pt x="138" y="1010"/>
                  </a:lnTo>
                  <a:lnTo>
                    <a:pt x="149" y="1023"/>
                  </a:lnTo>
                  <a:lnTo>
                    <a:pt x="163" y="1040"/>
                  </a:lnTo>
                  <a:lnTo>
                    <a:pt x="176" y="1051"/>
                  </a:lnTo>
                  <a:lnTo>
                    <a:pt x="190" y="1064"/>
                  </a:lnTo>
                  <a:lnTo>
                    <a:pt x="204" y="1078"/>
                  </a:lnTo>
                  <a:lnTo>
                    <a:pt x="220" y="1091"/>
                  </a:lnTo>
                  <a:lnTo>
                    <a:pt x="234" y="1102"/>
                  </a:lnTo>
                  <a:lnTo>
                    <a:pt x="250" y="1113"/>
                  </a:lnTo>
                  <a:lnTo>
                    <a:pt x="266" y="1127"/>
                  </a:lnTo>
                  <a:lnTo>
                    <a:pt x="285" y="1138"/>
                  </a:lnTo>
                  <a:lnTo>
                    <a:pt x="299" y="1148"/>
                  </a:lnTo>
                  <a:lnTo>
                    <a:pt x="315" y="1159"/>
                  </a:lnTo>
                  <a:lnTo>
                    <a:pt x="334" y="1170"/>
                  </a:lnTo>
                  <a:lnTo>
                    <a:pt x="353" y="1181"/>
                  </a:lnTo>
                  <a:lnTo>
                    <a:pt x="370" y="1189"/>
                  </a:lnTo>
                  <a:lnTo>
                    <a:pt x="389" y="1200"/>
                  </a:lnTo>
                  <a:lnTo>
                    <a:pt x="408" y="1208"/>
                  </a:lnTo>
                  <a:lnTo>
                    <a:pt x="427" y="1219"/>
                  </a:lnTo>
                  <a:lnTo>
                    <a:pt x="446" y="1227"/>
                  </a:lnTo>
                  <a:lnTo>
                    <a:pt x="465" y="1236"/>
                  </a:lnTo>
                  <a:lnTo>
                    <a:pt x="484" y="1241"/>
                  </a:lnTo>
                  <a:lnTo>
                    <a:pt x="506" y="1252"/>
                  </a:lnTo>
                  <a:lnTo>
                    <a:pt x="528" y="1257"/>
                  </a:lnTo>
                  <a:lnTo>
                    <a:pt x="549" y="1265"/>
                  </a:lnTo>
                  <a:lnTo>
                    <a:pt x="568" y="1274"/>
                  </a:lnTo>
                  <a:lnTo>
                    <a:pt x="593" y="1282"/>
                  </a:lnTo>
                  <a:lnTo>
                    <a:pt x="612" y="1284"/>
                  </a:lnTo>
                  <a:lnTo>
                    <a:pt x="634" y="1293"/>
                  </a:lnTo>
                  <a:lnTo>
                    <a:pt x="658" y="1295"/>
                  </a:lnTo>
                  <a:lnTo>
                    <a:pt x="680" y="1304"/>
                  </a:lnTo>
                  <a:lnTo>
                    <a:pt x="704" y="1306"/>
                  </a:lnTo>
                  <a:lnTo>
                    <a:pt x="726" y="1312"/>
                  </a:lnTo>
                  <a:lnTo>
                    <a:pt x="751" y="1314"/>
                  </a:lnTo>
                  <a:lnTo>
                    <a:pt x="775" y="1320"/>
                  </a:lnTo>
                  <a:lnTo>
                    <a:pt x="797" y="1323"/>
                  </a:lnTo>
                  <a:lnTo>
                    <a:pt x="821" y="1325"/>
                  </a:lnTo>
                  <a:lnTo>
                    <a:pt x="846" y="1328"/>
                  </a:lnTo>
                  <a:lnTo>
                    <a:pt x="870" y="1331"/>
                  </a:lnTo>
                  <a:lnTo>
                    <a:pt x="895" y="1333"/>
                  </a:lnTo>
                  <a:lnTo>
                    <a:pt x="919" y="1333"/>
                  </a:lnTo>
                  <a:lnTo>
                    <a:pt x="944" y="1333"/>
                  </a:lnTo>
                  <a:lnTo>
                    <a:pt x="971" y="1336"/>
                  </a:lnTo>
                  <a:lnTo>
                    <a:pt x="971" y="1336"/>
                  </a:lnTo>
                  <a:close/>
                </a:path>
              </a:pathLst>
            </a:custGeom>
            <a:solidFill>
              <a:srgbClr val="3d2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6040" y="2809800"/>
              <a:ext cx="2856600" cy="204480"/>
            </a:xfrm>
            <a:custGeom>
              <a:avLst/>
              <a:gdLst/>
              <a:ahLst/>
              <a:rect l="l" t="t" r="r" b="b"/>
              <a:pathLst>
                <a:path w="1758" h="161">
                  <a:moveTo>
                    <a:pt x="98" y="8"/>
                  </a:moveTo>
                  <a:lnTo>
                    <a:pt x="1714" y="0"/>
                  </a:lnTo>
                  <a:lnTo>
                    <a:pt x="1758" y="161"/>
                  </a:lnTo>
                  <a:lnTo>
                    <a:pt x="0" y="147"/>
                  </a:lnTo>
                  <a:lnTo>
                    <a:pt x="98" y="8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6120" y="3345840"/>
              <a:ext cx="2958840" cy="598320"/>
            </a:xfrm>
            <a:custGeom>
              <a:avLst/>
              <a:gdLst/>
              <a:ahLst/>
              <a:rect l="l" t="t" r="r" b="b"/>
              <a:pathLst>
                <a:path w="1821" h="471">
                  <a:moveTo>
                    <a:pt x="923" y="471"/>
                  </a:moveTo>
                  <a:lnTo>
                    <a:pt x="901" y="468"/>
                  </a:lnTo>
                  <a:lnTo>
                    <a:pt x="882" y="468"/>
                  </a:lnTo>
                  <a:lnTo>
                    <a:pt x="863" y="468"/>
                  </a:lnTo>
                  <a:lnTo>
                    <a:pt x="841" y="468"/>
                  </a:lnTo>
                  <a:lnTo>
                    <a:pt x="822" y="465"/>
                  </a:lnTo>
                  <a:lnTo>
                    <a:pt x="803" y="465"/>
                  </a:lnTo>
                  <a:lnTo>
                    <a:pt x="781" y="462"/>
                  </a:lnTo>
                  <a:lnTo>
                    <a:pt x="762" y="462"/>
                  </a:lnTo>
                  <a:lnTo>
                    <a:pt x="743" y="457"/>
                  </a:lnTo>
                  <a:lnTo>
                    <a:pt x="724" y="454"/>
                  </a:lnTo>
                  <a:lnTo>
                    <a:pt x="705" y="452"/>
                  </a:lnTo>
                  <a:lnTo>
                    <a:pt x="686" y="449"/>
                  </a:lnTo>
                  <a:lnTo>
                    <a:pt x="667" y="443"/>
                  </a:lnTo>
                  <a:lnTo>
                    <a:pt x="648" y="441"/>
                  </a:lnTo>
                  <a:lnTo>
                    <a:pt x="631" y="438"/>
                  </a:lnTo>
                  <a:lnTo>
                    <a:pt x="612" y="435"/>
                  </a:lnTo>
                  <a:lnTo>
                    <a:pt x="593" y="430"/>
                  </a:lnTo>
                  <a:lnTo>
                    <a:pt x="577" y="424"/>
                  </a:lnTo>
                  <a:lnTo>
                    <a:pt x="558" y="419"/>
                  </a:lnTo>
                  <a:lnTo>
                    <a:pt x="542" y="413"/>
                  </a:lnTo>
                  <a:lnTo>
                    <a:pt x="523" y="408"/>
                  </a:lnTo>
                  <a:lnTo>
                    <a:pt x="506" y="403"/>
                  </a:lnTo>
                  <a:lnTo>
                    <a:pt x="487" y="397"/>
                  </a:lnTo>
                  <a:lnTo>
                    <a:pt x="474" y="392"/>
                  </a:lnTo>
                  <a:lnTo>
                    <a:pt x="454" y="386"/>
                  </a:lnTo>
                  <a:lnTo>
                    <a:pt x="438" y="378"/>
                  </a:lnTo>
                  <a:lnTo>
                    <a:pt x="422" y="370"/>
                  </a:lnTo>
                  <a:lnTo>
                    <a:pt x="405" y="365"/>
                  </a:lnTo>
                  <a:lnTo>
                    <a:pt x="392" y="356"/>
                  </a:lnTo>
                  <a:lnTo>
                    <a:pt x="376" y="351"/>
                  </a:lnTo>
                  <a:lnTo>
                    <a:pt x="359" y="343"/>
                  </a:lnTo>
                  <a:lnTo>
                    <a:pt x="346" y="337"/>
                  </a:lnTo>
                  <a:lnTo>
                    <a:pt x="329" y="329"/>
                  </a:lnTo>
                  <a:lnTo>
                    <a:pt x="313" y="321"/>
                  </a:lnTo>
                  <a:lnTo>
                    <a:pt x="299" y="310"/>
                  </a:lnTo>
                  <a:lnTo>
                    <a:pt x="286" y="305"/>
                  </a:lnTo>
                  <a:lnTo>
                    <a:pt x="269" y="294"/>
                  </a:lnTo>
                  <a:lnTo>
                    <a:pt x="256" y="286"/>
                  </a:lnTo>
                  <a:lnTo>
                    <a:pt x="242" y="275"/>
                  </a:lnTo>
                  <a:lnTo>
                    <a:pt x="231" y="267"/>
                  </a:lnTo>
                  <a:lnTo>
                    <a:pt x="215" y="256"/>
                  </a:lnTo>
                  <a:lnTo>
                    <a:pt x="204" y="248"/>
                  </a:lnTo>
                  <a:lnTo>
                    <a:pt x="190" y="237"/>
                  </a:lnTo>
                  <a:lnTo>
                    <a:pt x="180" y="229"/>
                  </a:lnTo>
                  <a:lnTo>
                    <a:pt x="166" y="218"/>
                  </a:lnTo>
                  <a:lnTo>
                    <a:pt x="155" y="207"/>
                  </a:lnTo>
                  <a:lnTo>
                    <a:pt x="144" y="196"/>
                  </a:lnTo>
                  <a:lnTo>
                    <a:pt x="133" y="188"/>
                  </a:lnTo>
                  <a:lnTo>
                    <a:pt x="122" y="174"/>
                  </a:lnTo>
                  <a:lnTo>
                    <a:pt x="112" y="163"/>
                  </a:lnTo>
                  <a:lnTo>
                    <a:pt x="101" y="152"/>
                  </a:lnTo>
                  <a:lnTo>
                    <a:pt x="93" y="141"/>
                  </a:lnTo>
                  <a:lnTo>
                    <a:pt x="82" y="131"/>
                  </a:lnTo>
                  <a:lnTo>
                    <a:pt x="73" y="120"/>
                  </a:lnTo>
                  <a:lnTo>
                    <a:pt x="63" y="109"/>
                  </a:lnTo>
                  <a:lnTo>
                    <a:pt x="54" y="98"/>
                  </a:lnTo>
                  <a:lnTo>
                    <a:pt x="46" y="84"/>
                  </a:lnTo>
                  <a:lnTo>
                    <a:pt x="38" y="73"/>
                  </a:lnTo>
                  <a:lnTo>
                    <a:pt x="30" y="60"/>
                  </a:lnTo>
                  <a:lnTo>
                    <a:pt x="24" y="49"/>
                  </a:lnTo>
                  <a:lnTo>
                    <a:pt x="16" y="35"/>
                  </a:lnTo>
                  <a:lnTo>
                    <a:pt x="8" y="24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9" y="0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8" y="3"/>
                  </a:lnTo>
                  <a:lnTo>
                    <a:pt x="185" y="3"/>
                  </a:lnTo>
                  <a:lnTo>
                    <a:pt x="212" y="3"/>
                  </a:lnTo>
                  <a:lnTo>
                    <a:pt x="239" y="3"/>
                  </a:lnTo>
                  <a:lnTo>
                    <a:pt x="267" y="3"/>
                  </a:lnTo>
                  <a:lnTo>
                    <a:pt x="294" y="3"/>
                  </a:lnTo>
                  <a:lnTo>
                    <a:pt x="324" y="5"/>
                  </a:lnTo>
                  <a:lnTo>
                    <a:pt x="351" y="5"/>
                  </a:lnTo>
                  <a:lnTo>
                    <a:pt x="381" y="5"/>
                  </a:lnTo>
                  <a:lnTo>
                    <a:pt x="408" y="5"/>
                  </a:lnTo>
                  <a:lnTo>
                    <a:pt x="438" y="8"/>
                  </a:lnTo>
                  <a:lnTo>
                    <a:pt x="465" y="8"/>
                  </a:lnTo>
                  <a:lnTo>
                    <a:pt x="493" y="8"/>
                  </a:lnTo>
                  <a:lnTo>
                    <a:pt x="520" y="11"/>
                  </a:lnTo>
                  <a:lnTo>
                    <a:pt x="550" y="11"/>
                  </a:lnTo>
                  <a:lnTo>
                    <a:pt x="577" y="11"/>
                  </a:lnTo>
                  <a:lnTo>
                    <a:pt x="607" y="11"/>
                  </a:lnTo>
                  <a:lnTo>
                    <a:pt x="637" y="14"/>
                  </a:lnTo>
                  <a:lnTo>
                    <a:pt x="667" y="14"/>
                  </a:lnTo>
                  <a:lnTo>
                    <a:pt x="694" y="14"/>
                  </a:lnTo>
                  <a:lnTo>
                    <a:pt x="724" y="16"/>
                  </a:lnTo>
                  <a:lnTo>
                    <a:pt x="754" y="16"/>
                  </a:lnTo>
                  <a:lnTo>
                    <a:pt x="784" y="16"/>
                  </a:lnTo>
                  <a:lnTo>
                    <a:pt x="811" y="16"/>
                  </a:lnTo>
                  <a:lnTo>
                    <a:pt x="841" y="19"/>
                  </a:lnTo>
                  <a:lnTo>
                    <a:pt x="871" y="22"/>
                  </a:lnTo>
                  <a:lnTo>
                    <a:pt x="901" y="22"/>
                  </a:lnTo>
                  <a:lnTo>
                    <a:pt x="931" y="22"/>
                  </a:lnTo>
                  <a:lnTo>
                    <a:pt x="958" y="22"/>
                  </a:lnTo>
                  <a:lnTo>
                    <a:pt x="988" y="22"/>
                  </a:lnTo>
                  <a:lnTo>
                    <a:pt x="1018" y="24"/>
                  </a:lnTo>
                  <a:lnTo>
                    <a:pt x="1045" y="24"/>
                  </a:lnTo>
                  <a:lnTo>
                    <a:pt x="1075" y="24"/>
                  </a:lnTo>
                  <a:lnTo>
                    <a:pt x="1105" y="24"/>
                  </a:lnTo>
                  <a:lnTo>
                    <a:pt x="1135" y="27"/>
                  </a:lnTo>
                  <a:lnTo>
                    <a:pt x="1162" y="27"/>
                  </a:lnTo>
                  <a:lnTo>
                    <a:pt x="1195" y="27"/>
                  </a:lnTo>
                  <a:lnTo>
                    <a:pt x="1222" y="27"/>
                  </a:lnTo>
                  <a:lnTo>
                    <a:pt x="1252" y="30"/>
                  </a:lnTo>
                  <a:lnTo>
                    <a:pt x="1279" y="30"/>
                  </a:lnTo>
                  <a:lnTo>
                    <a:pt x="1312" y="33"/>
                  </a:lnTo>
                  <a:lnTo>
                    <a:pt x="1339" y="33"/>
                  </a:lnTo>
                  <a:lnTo>
                    <a:pt x="1369" y="35"/>
                  </a:lnTo>
                  <a:lnTo>
                    <a:pt x="1396" y="35"/>
                  </a:lnTo>
                  <a:lnTo>
                    <a:pt x="1426" y="35"/>
                  </a:lnTo>
                  <a:lnTo>
                    <a:pt x="1453" y="35"/>
                  </a:lnTo>
                  <a:lnTo>
                    <a:pt x="1483" y="35"/>
                  </a:lnTo>
                  <a:lnTo>
                    <a:pt x="1510" y="35"/>
                  </a:lnTo>
                  <a:lnTo>
                    <a:pt x="1540" y="38"/>
                  </a:lnTo>
                  <a:lnTo>
                    <a:pt x="1568" y="38"/>
                  </a:lnTo>
                  <a:lnTo>
                    <a:pt x="1597" y="38"/>
                  </a:lnTo>
                  <a:lnTo>
                    <a:pt x="1625" y="38"/>
                  </a:lnTo>
                  <a:lnTo>
                    <a:pt x="1655" y="41"/>
                  </a:lnTo>
                  <a:lnTo>
                    <a:pt x="1682" y="41"/>
                  </a:lnTo>
                  <a:lnTo>
                    <a:pt x="1709" y="44"/>
                  </a:lnTo>
                  <a:lnTo>
                    <a:pt x="1736" y="44"/>
                  </a:lnTo>
                  <a:lnTo>
                    <a:pt x="1766" y="44"/>
                  </a:lnTo>
                  <a:lnTo>
                    <a:pt x="1793" y="46"/>
                  </a:lnTo>
                  <a:lnTo>
                    <a:pt x="1821" y="46"/>
                  </a:lnTo>
                  <a:lnTo>
                    <a:pt x="1815" y="57"/>
                  </a:lnTo>
                  <a:lnTo>
                    <a:pt x="1807" y="68"/>
                  </a:lnTo>
                  <a:lnTo>
                    <a:pt x="1799" y="79"/>
                  </a:lnTo>
                  <a:lnTo>
                    <a:pt x="1791" y="92"/>
                  </a:lnTo>
                  <a:lnTo>
                    <a:pt x="1783" y="101"/>
                  </a:lnTo>
                  <a:lnTo>
                    <a:pt x="1774" y="114"/>
                  </a:lnTo>
                  <a:lnTo>
                    <a:pt x="1766" y="122"/>
                  </a:lnTo>
                  <a:lnTo>
                    <a:pt x="1758" y="136"/>
                  </a:lnTo>
                  <a:lnTo>
                    <a:pt x="1747" y="144"/>
                  </a:lnTo>
                  <a:lnTo>
                    <a:pt x="1739" y="155"/>
                  </a:lnTo>
                  <a:lnTo>
                    <a:pt x="1728" y="166"/>
                  </a:lnTo>
                  <a:lnTo>
                    <a:pt x="1720" y="177"/>
                  </a:lnTo>
                  <a:lnTo>
                    <a:pt x="1709" y="185"/>
                  </a:lnTo>
                  <a:lnTo>
                    <a:pt x="1698" y="196"/>
                  </a:lnTo>
                  <a:lnTo>
                    <a:pt x="1687" y="207"/>
                  </a:lnTo>
                  <a:lnTo>
                    <a:pt x="1679" y="218"/>
                  </a:lnTo>
                  <a:lnTo>
                    <a:pt x="1666" y="226"/>
                  </a:lnTo>
                  <a:lnTo>
                    <a:pt x="1655" y="234"/>
                  </a:lnTo>
                  <a:lnTo>
                    <a:pt x="1641" y="242"/>
                  </a:lnTo>
                  <a:lnTo>
                    <a:pt x="1630" y="253"/>
                  </a:lnTo>
                  <a:lnTo>
                    <a:pt x="1617" y="261"/>
                  </a:lnTo>
                  <a:lnTo>
                    <a:pt x="1606" y="269"/>
                  </a:lnTo>
                  <a:lnTo>
                    <a:pt x="1592" y="277"/>
                  </a:lnTo>
                  <a:lnTo>
                    <a:pt x="1581" y="288"/>
                  </a:lnTo>
                  <a:lnTo>
                    <a:pt x="1568" y="297"/>
                  </a:lnTo>
                  <a:lnTo>
                    <a:pt x="1554" y="305"/>
                  </a:lnTo>
                  <a:lnTo>
                    <a:pt x="1540" y="310"/>
                  </a:lnTo>
                  <a:lnTo>
                    <a:pt x="1527" y="321"/>
                  </a:lnTo>
                  <a:lnTo>
                    <a:pt x="1510" y="329"/>
                  </a:lnTo>
                  <a:lnTo>
                    <a:pt x="1497" y="335"/>
                  </a:lnTo>
                  <a:lnTo>
                    <a:pt x="1483" y="343"/>
                  </a:lnTo>
                  <a:lnTo>
                    <a:pt x="1470" y="351"/>
                  </a:lnTo>
                  <a:lnTo>
                    <a:pt x="1453" y="356"/>
                  </a:lnTo>
                  <a:lnTo>
                    <a:pt x="1440" y="365"/>
                  </a:lnTo>
                  <a:lnTo>
                    <a:pt x="1423" y="370"/>
                  </a:lnTo>
                  <a:lnTo>
                    <a:pt x="1407" y="375"/>
                  </a:lnTo>
                  <a:lnTo>
                    <a:pt x="1391" y="381"/>
                  </a:lnTo>
                  <a:lnTo>
                    <a:pt x="1377" y="389"/>
                  </a:lnTo>
                  <a:lnTo>
                    <a:pt x="1361" y="394"/>
                  </a:lnTo>
                  <a:lnTo>
                    <a:pt x="1347" y="400"/>
                  </a:lnTo>
                  <a:lnTo>
                    <a:pt x="1328" y="405"/>
                  </a:lnTo>
                  <a:lnTo>
                    <a:pt x="1312" y="411"/>
                  </a:lnTo>
                  <a:lnTo>
                    <a:pt x="1295" y="413"/>
                  </a:lnTo>
                  <a:lnTo>
                    <a:pt x="1279" y="419"/>
                  </a:lnTo>
                  <a:lnTo>
                    <a:pt x="1263" y="424"/>
                  </a:lnTo>
                  <a:lnTo>
                    <a:pt x="1246" y="430"/>
                  </a:lnTo>
                  <a:lnTo>
                    <a:pt x="1230" y="433"/>
                  </a:lnTo>
                  <a:lnTo>
                    <a:pt x="1214" y="438"/>
                  </a:lnTo>
                  <a:lnTo>
                    <a:pt x="1195" y="441"/>
                  </a:lnTo>
                  <a:lnTo>
                    <a:pt x="1178" y="443"/>
                  </a:lnTo>
                  <a:lnTo>
                    <a:pt x="1159" y="446"/>
                  </a:lnTo>
                  <a:lnTo>
                    <a:pt x="1143" y="452"/>
                  </a:lnTo>
                  <a:lnTo>
                    <a:pt x="1124" y="452"/>
                  </a:lnTo>
                  <a:lnTo>
                    <a:pt x="1105" y="454"/>
                  </a:lnTo>
                  <a:lnTo>
                    <a:pt x="1086" y="457"/>
                  </a:lnTo>
                  <a:lnTo>
                    <a:pt x="1070" y="462"/>
                  </a:lnTo>
                  <a:lnTo>
                    <a:pt x="1050" y="462"/>
                  </a:lnTo>
                  <a:lnTo>
                    <a:pt x="1034" y="465"/>
                  </a:lnTo>
                  <a:lnTo>
                    <a:pt x="1015" y="465"/>
                  </a:lnTo>
                  <a:lnTo>
                    <a:pt x="996" y="468"/>
                  </a:lnTo>
                  <a:lnTo>
                    <a:pt x="977" y="468"/>
                  </a:lnTo>
                  <a:lnTo>
                    <a:pt x="958" y="468"/>
                  </a:lnTo>
                  <a:lnTo>
                    <a:pt x="942" y="468"/>
                  </a:lnTo>
                  <a:lnTo>
                    <a:pt x="923" y="471"/>
                  </a:lnTo>
                  <a:lnTo>
                    <a:pt x="923" y="471"/>
                  </a:lnTo>
                  <a:close/>
                </a:path>
              </a:pathLst>
            </a:custGeom>
            <a:solidFill>
              <a:srgbClr val="734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913840"/>
              <a:ext cx="2453760" cy="2620080"/>
            </a:xfrm>
            <a:custGeom>
              <a:avLst/>
              <a:gdLst/>
              <a:ahLst/>
              <a:rect l="l" t="t" r="r" b="b"/>
              <a:pathLst>
                <a:path w="1510" h="2062">
                  <a:moveTo>
                    <a:pt x="1510" y="0"/>
                  </a:moveTo>
                  <a:lnTo>
                    <a:pt x="0" y="1942"/>
                  </a:lnTo>
                  <a:lnTo>
                    <a:pt x="84" y="2062"/>
                  </a:lnTo>
                  <a:lnTo>
                    <a:pt x="1510" y="71"/>
                  </a:lnTo>
                  <a:lnTo>
                    <a:pt x="1510" y="0"/>
                  </a:lnTo>
                  <a:lnTo>
                    <a:pt x="1510" y="0"/>
                  </a:lnTo>
                  <a:close/>
                </a:path>
              </a:pathLst>
            </a:custGeom>
            <a:solidFill>
              <a:srgbClr val="ff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920" y="3010320"/>
              <a:ext cx="2313720" cy="2696400"/>
            </a:xfrm>
            <a:custGeom>
              <a:avLst/>
              <a:gdLst/>
              <a:ahLst/>
              <a:rect l="l" t="t" r="r" b="b"/>
              <a:pathLst>
                <a:path w="1424" h="2122">
                  <a:moveTo>
                    <a:pt x="1424" y="171"/>
                  </a:moveTo>
                  <a:lnTo>
                    <a:pt x="107" y="2122"/>
                  </a:lnTo>
                  <a:lnTo>
                    <a:pt x="0" y="1986"/>
                  </a:lnTo>
                  <a:lnTo>
                    <a:pt x="1421" y="0"/>
                  </a:lnTo>
                  <a:lnTo>
                    <a:pt x="1424" y="171"/>
                  </a:lnTo>
                  <a:lnTo>
                    <a:pt x="1424" y="1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760" y="3093120"/>
              <a:ext cx="2175840" cy="2755800"/>
            </a:xfrm>
            <a:custGeom>
              <a:avLst/>
              <a:gdLst/>
              <a:ahLst/>
              <a:rect l="l" t="t" r="r" b="b"/>
              <a:pathLst>
                <a:path w="1339" h="2169">
                  <a:moveTo>
                    <a:pt x="1309" y="0"/>
                  </a:moveTo>
                  <a:lnTo>
                    <a:pt x="0" y="2057"/>
                  </a:lnTo>
                  <a:lnTo>
                    <a:pt x="98" y="2169"/>
                  </a:lnTo>
                  <a:lnTo>
                    <a:pt x="1339" y="123"/>
                  </a:lnTo>
                  <a:lnTo>
                    <a:pt x="1309" y="0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9200" y="3263400"/>
              <a:ext cx="2029680" cy="2726640"/>
            </a:xfrm>
            <a:custGeom>
              <a:avLst/>
              <a:gdLst/>
              <a:ahLst/>
              <a:rect l="l" t="t" r="r" b="b"/>
              <a:pathLst>
                <a:path w="1249" h="2146">
                  <a:moveTo>
                    <a:pt x="1225" y="0"/>
                  </a:moveTo>
                  <a:lnTo>
                    <a:pt x="0" y="2032"/>
                  </a:lnTo>
                  <a:lnTo>
                    <a:pt x="98" y="2146"/>
                  </a:lnTo>
                  <a:lnTo>
                    <a:pt x="1249" y="87"/>
                  </a:lnTo>
                  <a:lnTo>
                    <a:pt x="1225" y="0"/>
                  </a:lnTo>
                  <a:lnTo>
                    <a:pt x="1225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360" y="3345840"/>
              <a:ext cx="1914120" cy="2800440"/>
            </a:xfrm>
            <a:custGeom>
              <a:avLst/>
              <a:gdLst/>
              <a:ahLst/>
              <a:rect l="l" t="t" r="r" b="b"/>
              <a:pathLst>
                <a:path w="1178" h="2204">
                  <a:moveTo>
                    <a:pt x="1151" y="0"/>
                  </a:moveTo>
                  <a:lnTo>
                    <a:pt x="0" y="2076"/>
                  </a:lnTo>
                  <a:lnTo>
                    <a:pt x="109" y="2204"/>
                  </a:lnTo>
                  <a:lnTo>
                    <a:pt x="1178" y="92"/>
                  </a:lnTo>
                  <a:lnTo>
                    <a:pt x="1151" y="0"/>
                  </a:lnTo>
                  <a:lnTo>
                    <a:pt x="1151" y="0"/>
                  </a:lnTo>
                  <a:close/>
                </a:path>
              </a:pathLst>
            </a:custGeom>
            <a:solidFill>
              <a:srgbClr val="7d5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1920" y="2309040"/>
              <a:ext cx="1520640" cy="1386000"/>
            </a:xfrm>
            <a:custGeom>
              <a:avLst/>
              <a:gdLst/>
              <a:ahLst/>
              <a:rect l="l" t="t" r="r" b="b"/>
              <a:pathLst>
                <a:path w="936" h="1091">
                  <a:moveTo>
                    <a:pt x="52" y="367"/>
                  </a:moveTo>
                  <a:lnTo>
                    <a:pt x="0" y="1091"/>
                  </a:lnTo>
                  <a:lnTo>
                    <a:pt x="868" y="729"/>
                  </a:lnTo>
                  <a:lnTo>
                    <a:pt x="936" y="0"/>
                  </a:lnTo>
                  <a:lnTo>
                    <a:pt x="52" y="367"/>
                  </a:lnTo>
                  <a:lnTo>
                    <a:pt x="52" y="36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8800" y="1965960"/>
              <a:ext cx="428760" cy="1739520"/>
            </a:xfrm>
            <a:custGeom>
              <a:avLst/>
              <a:gdLst/>
              <a:ahLst/>
              <a:rect l="l" t="t" r="r" b="b"/>
              <a:pathLst>
                <a:path w="264" h="1369">
                  <a:moveTo>
                    <a:pt x="90" y="0"/>
                  </a:moveTo>
                  <a:lnTo>
                    <a:pt x="0" y="819"/>
                  </a:lnTo>
                  <a:lnTo>
                    <a:pt x="142" y="1369"/>
                  </a:lnTo>
                  <a:lnTo>
                    <a:pt x="264" y="38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000" y="1955880"/>
              <a:ext cx="1577880" cy="785160"/>
            </a:xfrm>
            <a:custGeom>
              <a:avLst/>
              <a:gdLst/>
              <a:ahLst/>
              <a:rect l="l" t="t" r="r" b="b"/>
              <a:pathLst>
                <a:path w="971" h="618">
                  <a:moveTo>
                    <a:pt x="0" y="0"/>
                  </a:moveTo>
                  <a:lnTo>
                    <a:pt x="971" y="286"/>
                  </a:lnTo>
                  <a:lnTo>
                    <a:pt x="147" y="6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5720" y="2315160"/>
              <a:ext cx="1356840" cy="646560"/>
            </a:xfrm>
            <a:custGeom>
              <a:avLst/>
              <a:gdLst/>
              <a:ahLst/>
              <a:rect l="l" t="t" r="r" b="b"/>
              <a:pathLst>
                <a:path w="835" h="509">
                  <a:moveTo>
                    <a:pt x="0" y="335"/>
                  </a:moveTo>
                  <a:lnTo>
                    <a:pt x="424" y="509"/>
                  </a:lnTo>
                  <a:lnTo>
                    <a:pt x="835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720" y="2903760"/>
              <a:ext cx="3596040" cy="192960"/>
            </a:xfrm>
            <a:custGeom>
              <a:avLst/>
              <a:gdLst/>
              <a:ahLst/>
              <a:rect l="l" t="t" r="r" b="b"/>
              <a:pathLst>
                <a:path w="2213" h="152">
                  <a:moveTo>
                    <a:pt x="0" y="22"/>
                  </a:moveTo>
                  <a:lnTo>
                    <a:pt x="2213" y="0"/>
                  </a:lnTo>
                  <a:lnTo>
                    <a:pt x="2196" y="152"/>
                  </a:lnTo>
                  <a:lnTo>
                    <a:pt x="57" y="14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0520" y="2136240"/>
              <a:ext cx="667440" cy="431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0" y="193"/>
                  </a:moveTo>
                  <a:lnTo>
                    <a:pt x="411" y="0"/>
                  </a:lnTo>
                  <a:lnTo>
                    <a:pt x="403" y="34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840" y="2803320"/>
              <a:ext cx="480600" cy="36576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296" y="0"/>
                  </a:moveTo>
                  <a:lnTo>
                    <a:pt x="0" y="160"/>
                  </a:lnTo>
                  <a:lnTo>
                    <a:pt x="296" y="288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2917440"/>
              <a:ext cx="1327680" cy="182880"/>
            </a:xfrm>
            <a:custGeom>
              <a:avLst/>
              <a:gdLst/>
              <a:ahLst/>
              <a:rect l="l" t="t" r="r" b="b"/>
              <a:pathLst>
                <a:path w="817" h="144">
                  <a:moveTo>
                    <a:pt x="468" y="0"/>
                  </a:moveTo>
                  <a:lnTo>
                    <a:pt x="0" y="144"/>
                  </a:lnTo>
                  <a:lnTo>
                    <a:pt x="817" y="136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1840" y="2962080"/>
              <a:ext cx="331200" cy="24120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0" y="63"/>
                  </a:moveTo>
                  <a:lnTo>
                    <a:pt x="204" y="0"/>
                  </a:lnTo>
                  <a:lnTo>
                    <a:pt x="179" y="19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320" y="3978360"/>
            <a:ext cx="5305680" cy="2539800"/>
            <a:chOff x="247320" y="3978360"/>
            <a:chExt cx="5305680" cy="25398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3289320" y="3978360"/>
              <a:ext cx="2263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7320" y="4838760"/>
              <a:ext cx="30427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llaboration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ollaboration Roo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plication Sh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wareness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60440" y="4002120"/>
            <a:ext cx="3058200" cy="1841400"/>
            <a:chOff x="5860440" y="4002120"/>
            <a:chExt cx="3058200" cy="18414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057720" y="4002120"/>
              <a:ext cx="22096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60440" y="5221080"/>
              <a:ext cx="30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onfere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54720" y="928800"/>
            <a:ext cx="1703160" cy="1755000"/>
            <a:chOff x="6354720" y="928800"/>
            <a:chExt cx="1703160" cy="1755000"/>
          </a:xfrm>
        </p:grpSpPr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6505560" y="928800"/>
              <a:ext cx="1371240" cy="13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54720" y="2224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80" y="446040"/>
            <a:ext cx="2208600" cy="2967840"/>
            <a:chOff x="11880" y="446040"/>
            <a:chExt cx="2208600" cy="296784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240480" y="446040"/>
              <a:ext cx="198000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880" y="2954160"/>
              <a:ext cx="20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5040" y="3405240"/>
            <a:ext cx="647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pectrum of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1558800"/>
            <a:ext cx="7753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eds of Communities of Practice already exist within organisations and groups of people with commo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it right is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tap into people’s pa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balance right – big may be too general, small may not provide enough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must be suppor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must commit itself to allowing staff time for participation in C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need to develop skills to participate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: Four Stag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2520" y="1271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entify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e Social Network Analysi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ioritize and select (Potential Value Add to the organization, alignment with corporate strategy, ease of development (quick wins), Size (critical mass, members identification), internal visibility, geographical divers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nderstanding the community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ir needs, requirements (which technology support is 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organisations in which they work and operate (constrai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Institutionalise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ind a Champ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mploy a facilitator/ mod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ognize the workload and the skil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et-up supporting 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ommunity kick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mbers develop Community profile and mission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stain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 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success 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ind a Champ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080" y="1380960"/>
            <a:ext cx="3733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support at highest possibl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349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360" y="80496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mploy a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133720" y="2289240"/>
            <a:ext cx="4647960" cy="3044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91440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People to Introduc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1981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commo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048120"/>
            <a:ext cx="2286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ople who join late or don’t read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3581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Proa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e Misundersta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334120"/>
            <a:ext cx="342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952880"/>
            <a:ext cx="2743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rough on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95480" y="2895480"/>
            <a:ext cx="3348000" cy="217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uild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359000"/>
            <a:ext cx="4724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nd Communicate Groun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establish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expect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ecision-m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buy-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 Mission Stat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209680"/>
            <a:ext cx="86486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ties of practice will develop and support knowledge sharing for the benefit of the Department and individuals 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good practice, minimising du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lear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creativit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ing and recognising the contributions of individu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976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73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idiar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 Are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78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 Info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81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ure consistent communication towards 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ke organization aware of customer needs and probl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blish a community of people with customer 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awareness for the benefit of knowledge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384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s defined and agreed by core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pt and content agr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89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 results will be available 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visions, al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ring Committee for Quality 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94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Offen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97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pid Reduction of non-performance costs through cross-divisional knowledge transfer and better 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tion of quality problems along the entire product 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400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concept is ready, detailed concept to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 steps: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staining interes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6120" y="1409760"/>
            <a:ext cx="852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0200" y="1598760"/>
            <a:ext cx="8126280" cy="281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of accomplishments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nd communic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recognition (leading to satisf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Showcase &amp; Innovation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&amp; diffusion of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 additional employees into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n the base of topics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alue measur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2440" y="1390680"/>
            <a:ext cx="8147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ible (quant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, number of contributions, frequency of contributions, response times, savings, rat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ngible (qual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,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by anecdotal evidence (st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deas are being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resulting from community input: value appears in the work of teams and business units, not in the communities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520" y="5140440"/>
            <a:ext cx="7569000" cy="110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tinue a group when value generation ceases (death is natural as interests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2640" y="4249800"/>
            <a:ext cx="522360" cy="691920"/>
          </a:xfrm>
          <a:prstGeom prst="downArrow">
            <a:avLst>
              <a:gd name="adj1" fmla="val 50000"/>
              <a:gd name="adj2" fmla="val 3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E&amp;P realizes annual benefits of $200+ million through its CoP knowledge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Management Systems (AMS) estimates that their communities save the company between $2-5 million per year and increase revenue by over $13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ternational company formed communities to supplement their management development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ex cut service set-up time by 80% through the increased communication that communities b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ble of Cont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7561440" y="28440"/>
            <a:ext cx="1582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600200"/>
            <a:ext cx="4419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ollaboration with SAP Net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Room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Launch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Real-Tim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Third-Party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M Collabor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Busines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60" y="4597560"/>
            <a:ext cx="8632800" cy="1589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lease refer to SAP Service Market Place ( 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3"/>
              </a:rPr>
              <a:t>service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5"/>
              </a:rPr>
              <a:t>sap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7"/>
              </a:rPr>
              <a:t>com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9"/>
              </a:rPr>
              <a:t>ep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) for up to date product information on collaboration with SAP NetWea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ath:  Solutions Details / MySAP Business Suite / MySAP Enterprise Portal / Production Information / Collaboration / Collaboration with SAP Netweaver/ Media Cen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 to Overview Presentation on SAP Service Market Pl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adada"/>
                </a:solidFill>
                <a:uFillTx/>
                <a:latin typeface="Arial"/>
                <a:hlinkClick r:id="rId10"/>
              </a:rPr>
              <a:t>https://websmp101.sap-ag.de/~sapidb/011000358700000604782003E/10282003CollwithSAPNW_EP6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235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500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 informally bound together by shared expertise &amp; passion for a joint enterprise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tienne We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peers in the execution of real work.  What holds them together is a common sense of purpose and a real need to know what each other kn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Futura Lt BT"/>
              </a:rPr>
              <a:t>John Seely 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 Community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7620120" cy="525780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981080"/>
            <a:ext cx="5181840" cy="388620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2670120" cy="3192480"/>
            <a:chOff x="1523880" y="2362320"/>
            <a:chExt cx="2670120" cy="3192480"/>
          </a:xfrm>
        </p:grpSpPr>
        <p:sp>
          <p:nvSpPr>
            <p:cNvPr id="53" name=""/>
            <p:cNvSpPr/>
            <p:nvPr/>
          </p:nvSpPr>
          <p:spPr>
            <a:xfrm>
              <a:off x="1676520" y="2743200"/>
              <a:ext cx="2361960" cy="24382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70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600200" y="388620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438280" y="23623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19520" y="23623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213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357840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>
              <a:off x="2971800" y="4800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>
              <a:off x="259092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209680" y="47242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2"/>
            <a:stretch/>
          </p:blipFill>
          <p:spPr>
            <a:xfrm>
              <a:off x="1828800" y="44197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3"/>
            <a:stretch/>
          </p:blipFill>
          <p:spPr>
            <a:xfrm>
              <a:off x="3809880" y="32004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4"/>
            <a:stretch/>
          </p:blipFill>
          <p:spPr>
            <a:xfrm>
              <a:off x="3809880" y="39625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5"/>
            <a:stretch/>
          </p:blipFill>
          <p:spPr>
            <a:xfrm>
              <a:off x="3581280" y="44197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6"/>
            <a:stretch/>
          </p:blipFill>
          <p:spPr>
            <a:xfrm>
              <a:off x="327348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52800" y="34783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xper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n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720" y="3581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44197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3809880" y="16765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30481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4952880" y="19810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6934320" y="13716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8534520" y="3429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7772400" y="20574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3505320" y="54864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6019920" y="44197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6324480" y="36576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6095880" y="2743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5562720" y="2286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4114800" y="53341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4648320" y="53341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5105520" y="5029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5562720" y="47242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8001000" y="48769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7086600" y="5638680"/>
            <a:ext cx="368280" cy="75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560" y="35053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u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19112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90920" y="304812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11480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297180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1295280"/>
            <a:ext cx="4190760" cy="2590920"/>
            <a:chOff x="4648320" y="1295280"/>
            <a:chExt cx="4190760" cy="2590920"/>
          </a:xfrm>
        </p:grpSpPr>
        <p:sp>
          <p:nvSpPr>
            <p:cNvPr id="97" name=""/>
            <p:cNvSpPr/>
            <p:nvPr/>
          </p:nvSpPr>
          <p:spPr>
            <a:xfrm>
              <a:off x="4648320" y="1295280"/>
              <a:ext cx="410688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0040" y="16329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53520" y="1820880"/>
              <a:ext cx="1438920" cy="1573200"/>
              <a:chOff x="4853520" y="1820880"/>
              <a:chExt cx="1438920" cy="15732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35600" y="20084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764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664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3520" y="2196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4560" y="2571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000" y="18208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1560" y="1820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360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052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3640" y="30225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844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22880" y="2984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7680" y="28346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85440" y="22338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5440" y="26092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62320" y="28346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79636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641412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085440" y="14828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567504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6701760" y="16329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7769520" y="13327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8632080" y="2346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8221320" y="16707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4"/>
            <a:stretch/>
          </p:blipFill>
          <p:spPr>
            <a:xfrm>
              <a:off x="5921280" y="33606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7276680" y="28350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7440840" y="2459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7317720" y="20088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7030440" y="17834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6249960" y="32853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6537600" y="32853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1"/>
            <a:stretch/>
          </p:blipFill>
          <p:spPr>
            <a:xfrm>
              <a:off x="6783840" y="31352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2"/>
            <a:stretch/>
          </p:blipFill>
          <p:spPr>
            <a:xfrm>
              <a:off x="7030440" y="29851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3"/>
            <a:stretch/>
          </p:blipFill>
          <p:spPr>
            <a:xfrm>
              <a:off x="8344440" y="30600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4"/>
            <a:stretch/>
          </p:blipFill>
          <p:spPr>
            <a:xfrm>
              <a:off x="7851600" y="34354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 rot="8426400">
            <a:off x="837720" y="3657240"/>
            <a:ext cx="4106880" cy="259092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523880"/>
            <a:ext cx="4191120" cy="2590920"/>
            <a:chOff x="914400" y="1523880"/>
            <a:chExt cx="4191120" cy="2590920"/>
          </a:xfrm>
        </p:grpSpPr>
        <p:sp>
          <p:nvSpPr>
            <p:cNvPr id="137" name=""/>
            <p:cNvSpPr/>
            <p:nvPr/>
          </p:nvSpPr>
          <p:spPr>
            <a:xfrm>
              <a:off x="914400" y="15238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6480" y="18615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9600" y="2049480"/>
              <a:ext cx="1438920" cy="1573200"/>
              <a:chOff x="1119600" y="2049480"/>
              <a:chExt cx="1438920" cy="157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01680" y="22370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41372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4272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19600" y="24246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0640" y="28004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612080" y="20494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817640" y="2049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2968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22660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99720" y="32511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452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488960" y="3213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283760" y="30632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51520" y="24624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51520" y="2837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8400" y="30632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06244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" descr=""/>
            <p:cNvPicPr/>
            <p:nvPr/>
          </p:nvPicPr>
          <p:blipFill>
            <a:blip r:embed="rId51"/>
            <a:stretch/>
          </p:blipFill>
          <p:spPr>
            <a:xfrm>
              <a:off x="268056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2"/>
            <a:stretch/>
          </p:blipFill>
          <p:spPr>
            <a:xfrm>
              <a:off x="2351880" y="17114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3"/>
            <a:stretch/>
          </p:blipFill>
          <p:spPr>
            <a:xfrm>
              <a:off x="194112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4"/>
            <a:stretch/>
          </p:blipFill>
          <p:spPr>
            <a:xfrm>
              <a:off x="2967840" y="18615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5"/>
            <a:stretch/>
          </p:blipFill>
          <p:spPr>
            <a:xfrm>
              <a:off x="4035960" y="15613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6"/>
            <a:stretch/>
          </p:blipFill>
          <p:spPr>
            <a:xfrm>
              <a:off x="4898520" y="25750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7"/>
            <a:stretch/>
          </p:blipFill>
          <p:spPr>
            <a:xfrm>
              <a:off x="4487760" y="18993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8"/>
            <a:stretch/>
          </p:blipFill>
          <p:spPr>
            <a:xfrm>
              <a:off x="2187720" y="35892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9"/>
            <a:stretch/>
          </p:blipFill>
          <p:spPr>
            <a:xfrm>
              <a:off x="3543120" y="30636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0"/>
            <a:stretch/>
          </p:blipFill>
          <p:spPr>
            <a:xfrm>
              <a:off x="3707280" y="26877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1"/>
            <a:stretch/>
          </p:blipFill>
          <p:spPr>
            <a:xfrm>
              <a:off x="3583800" y="22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2"/>
            <a:stretch/>
          </p:blipFill>
          <p:spPr>
            <a:xfrm>
              <a:off x="3296520" y="20120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3"/>
            <a:stretch/>
          </p:blipFill>
          <p:spPr>
            <a:xfrm>
              <a:off x="2516040" y="35139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4"/>
            <a:stretch/>
          </p:blipFill>
          <p:spPr>
            <a:xfrm>
              <a:off x="2803680" y="35139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5"/>
            <a:stretch/>
          </p:blipFill>
          <p:spPr>
            <a:xfrm>
              <a:off x="3050280" y="33638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6"/>
            <a:stretch/>
          </p:blipFill>
          <p:spPr>
            <a:xfrm>
              <a:off x="3296520" y="32137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7"/>
            <a:stretch/>
          </p:blipFill>
          <p:spPr>
            <a:xfrm>
              <a:off x="4610880" y="32886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8"/>
            <a:stretch/>
          </p:blipFill>
          <p:spPr>
            <a:xfrm>
              <a:off x="4118040" y="36640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24280" y="4038480"/>
            <a:ext cx="4191120" cy="2590920"/>
            <a:chOff x="4724280" y="4038480"/>
            <a:chExt cx="4191120" cy="2590920"/>
          </a:xfrm>
        </p:grpSpPr>
        <p:sp>
          <p:nvSpPr>
            <p:cNvPr id="176" name=""/>
            <p:cNvSpPr/>
            <p:nvPr/>
          </p:nvSpPr>
          <p:spPr>
            <a:xfrm>
              <a:off x="4724280" y="40384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360" y="43761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29480" y="4564080"/>
              <a:ext cx="1438920" cy="1573200"/>
              <a:chOff x="4929480" y="4564080"/>
              <a:chExt cx="1438920" cy="1573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011560" y="47516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2360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05260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929480" y="49392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970520" y="53150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421960" y="45640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7520" y="45640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83956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03648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709600" y="576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440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298840" y="5727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093640" y="55778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161400" y="4977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61400" y="5352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038280" y="55778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87232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85"/>
            <a:stretch/>
          </p:blipFill>
          <p:spPr>
            <a:xfrm>
              <a:off x="649044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6"/>
            <a:stretch/>
          </p:blipFill>
          <p:spPr>
            <a:xfrm>
              <a:off x="6161760" y="42260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87"/>
            <a:stretch/>
          </p:blipFill>
          <p:spPr>
            <a:xfrm>
              <a:off x="575100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8"/>
            <a:stretch/>
          </p:blipFill>
          <p:spPr>
            <a:xfrm>
              <a:off x="6777720" y="4376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9"/>
            <a:stretch/>
          </p:blipFill>
          <p:spPr>
            <a:xfrm>
              <a:off x="7845840" y="40759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0"/>
            <a:stretch/>
          </p:blipFill>
          <p:spPr>
            <a:xfrm>
              <a:off x="8708400" y="50896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1"/>
            <a:stretch/>
          </p:blipFill>
          <p:spPr>
            <a:xfrm>
              <a:off x="8297640" y="44139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2"/>
            <a:stretch/>
          </p:blipFill>
          <p:spPr>
            <a:xfrm>
              <a:off x="5997600" y="61038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3"/>
            <a:stretch/>
          </p:blipFill>
          <p:spPr>
            <a:xfrm>
              <a:off x="7353000" y="55782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4"/>
            <a:stretch/>
          </p:blipFill>
          <p:spPr>
            <a:xfrm>
              <a:off x="7517160" y="52023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5"/>
            <a:stretch/>
          </p:blipFill>
          <p:spPr>
            <a:xfrm>
              <a:off x="7393680" y="47520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6"/>
            <a:stretch/>
          </p:blipFill>
          <p:spPr>
            <a:xfrm>
              <a:off x="7106400" y="45266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7"/>
            <a:stretch/>
          </p:blipFill>
          <p:spPr>
            <a:xfrm>
              <a:off x="6325920" y="60285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98"/>
            <a:stretch/>
          </p:blipFill>
          <p:spPr>
            <a:xfrm>
              <a:off x="6613560" y="60285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9"/>
            <a:stretch/>
          </p:blipFill>
          <p:spPr>
            <a:xfrm>
              <a:off x="6860160" y="5878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0"/>
            <a:stretch/>
          </p:blipFill>
          <p:spPr>
            <a:xfrm>
              <a:off x="7106400" y="57283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1"/>
            <a:stretch/>
          </p:blipFill>
          <p:spPr>
            <a:xfrm>
              <a:off x="8420760" y="58032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2"/>
            <a:stretch/>
          </p:blipFill>
          <p:spPr>
            <a:xfrm>
              <a:off x="7927920" y="61786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 rot="8427600">
            <a:off x="1599480" y="3733920"/>
            <a:ext cx="2792520" cy="191448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962520"/>
            <a:ext cx="1439640" cy="1573200"/>
            <a:chOff x="2133720" y="3962520"/>
            <a:chExt cx="1439640" cy="1573200"/>
          </a:xfrm>
        </p:grpSpPr>
        <p:sp>
          <p:nvSpPr>
            <p:cNvPr id="216" name=""/>
            <p:cNvSpPr/>
            <p:nvPr/>
          </p:nvSpPr>
          <p:spPr>
            <a:xfrm>
              <a:off x="2215800" y="4150080"/>
              <a:ext cx="1273320" cy="12016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03"/>
            <a:stretch/>
          </p:blipFill>
          <p:spPr>
            <a:xfrm>
              <a:off x="242820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4"/>
            <a:stretch/>
          </p:blipFill>
          <p:spPr>
            <a:xfrm>
              <a:off x="22568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05"/>
            <a:stretch/>
          </p:blipFill>
          <p:spPr>
            <a:xfrm>
              <a:off x="2133720" y="43376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6"/>
            <a:stretch/>
          </p:blipFill>
          <p:spPr>
            <a:xfrm>
              <a:off x="2174760" y="4713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7"/>
            <a:stretch/>
          </p:blipFill>
          <p:spPr>
            <a:xfrm>
              <a:off x="2626560" y="39625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8"/>
            <a:stretch/>
          </p:blipFill>
          <p:spPr>
            <a:xfrm>
              <a:off x="2832120" y="39625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9"/>
            <a:stretch/>
          </p:blipFill>
          <p:spPr>
            <a:xfrm>
              <a:off x="304452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0"/>
            <a:stretch/>
          </p:blipFill>
          <p:spPr>
            <a:xfrm>
              <a:off x="32414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11"/>
            <a:stretch/>
          </p:blipFill>
          <p:spPr>
            <a:xfrm>
              <a:off x="2914200" y="51642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2"/>
            <a:stretch/>
          </p:blipFill>
          <p:spPr>
            <a:xfrm>
              <a:off x="270900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3"/>
            <a:stretch/>
          </p:blipFill>
          <p:spPr>
            <a:xfrm>
              <a:off x="2503440" y="5126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4"/>
            <a:stretch/>
          </p:blipFill>
          <p:spPr>
            <a:xfrm>
              <a:off x="2297880" y="497628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5"/>
            <a:stretch/>
          </p:blipFill>
          <p:spPr>
            <a:xfrm>
              <a:off x="3366360" y="4375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16"/>
            <a:stretch/>
          </p:blipFill>
          <p:spPr>
            <a:xfrm>
              <a:off x="3366360" y="47509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7"/>
            <a:stretch/>
          </p:blipFill>
          <p:spPr>
            <a:xfrm>
              <a:off x="3242880" y="497628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18"/>
            <a:stretch/>
          </p:blipFill>
          <p:spPr>
            <a:xfrm>
              <a:off x="307692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119"/>
          <a:stretch/>
        </p:blipFill>
        <p:spPr>
          <a:xfrm>
            <a:off x="1676520" y="4952880"/>
            <a:ext cx="1998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0"/>
          <a:stretch/>
        </p:blipFill>
        <p:spPr>
          <a:xfrm>
            <a:off x="2071800" y="3852720"/>
            <a:ext cx="206280" cy="376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1"/>
          <a:stretch/>
        </p:blipFill>
        <p:spPr>
          <a:xfrm>
            <a:off x="1905120" y="4191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2"/>
          <a:stretch/>
        </p:blipFill>
        <p:spPr>
          <a:xfrm>
            <a:off x="2819520" y="3505320"/>
            <a:ext cx="206280" cy="37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3"/>
          <a:stretch/>
        </p:blipFill>
        <p:spPr>
          <a:xfrm>
            <a:off x="2971800" y="55627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4"/>
          <a:stretch/>
        </p:blipFill>
        <p:spPr>
          <a:xfrm>
            <a:off x="4419720" y="365760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5"/>
          <a:stretch/>
        </p:blipFill>
        <p:spPr>
          <a:xfrm>
            <a:off x="3733920" y="342900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6"/>
          <a:stretch/>
        </p:blipFill>
        <p:spPr>
          <a:xfrm>
            <a:off x="2209680" y="5638680"/>
            <a:ext cx="206640" cy="37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7"/>
          <a:stretch/>
        </p:blipFill>
        <p:spPr>
          <a:xfrm>
            <a:off x="3581280" y="510552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8"/>
          <a:stretch/>
        </p:blipFill>
        <p:spPr>
          <a:xfrm>
            <a:off x="3886200" y="4800600"/>
            <a:ext cx="20808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9"/>
          <a:stretch/>
        </p:blipFill>
        <p:spPr>
          <a:xfrm>
            <a:off x="1828800" y="5334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0"/>
          <a:stretch/>
        </p:blipFill>
        <p:spPr>
          <a:xfrm>
            <a:off x="1752480" y="4495680"/>
            <a:ext cx="206640" cy="37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1"/>
          <a:stretch/>
        </p:blipFill>
        <p:spPr>
          <a:xfrm>
            <a:off x="2666880" y="563868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2"/>
          <a:stretch/>
        </p:blipFill>
        <p:spPr>
          <a:xfrm>
            <a:off x="3276720" y="5334120"/>
            <a:ext cx="207720" cy="374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3"/>
          <a:stretch/>
        </p:blipFill>
        <p:spPr>
          <a:xfrm>
            <a:off x="2666880" y="633420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4"/>
          <a:stretch/>
        </p:blipFill>
        <p:spPr>
          <a:xfrm>
            <a:off x="3429000" y="586728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5"/>
          <a:stretch/>
        </p:blipFill>
        <p:spPr>
          <a:xfrm>
            <a:off x="4114800" y="4267080"/>
            <a:ext cx="208080" cy="37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6"/>
          <a:stretch/>
        </p:blipFill>
        <p:spPr>
          <a:xfrm>
            <a:off x="4572000" y="3962520"/>
            <a:ext cx="198360" cy="371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1295280"/>
            <a:ext cx="2743200" cy="1219320"/>
          </a:xfrm>
          <a:prstGeom prst="cloudCallout">
            <a:avLst>
              <a:gd name="adj1" fmla="val -46699"/>
              <a:gd name="adj2" fmla="val 6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Lurker in one, mentor in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362320"/>
            <a:ext cx="2514600" cy="914400"/>
          </a:xfrm>
          <a:prstGeom prst="cloudCallout">
            <a:avLst>
              <a:gd name="adj1" fmla="val 42171"/>
              <a:gd name="adj2" fmla="val 7968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verlapping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114800"/>
            <a:ext cx="2514600" cy="1143000"/>
          </a:xfrm>
          <a:prstGeom prst="cloudCallout">
            <a:avLst>
              <a:gd name="adj1" fmla="val 48486"/>
              <a:gd name="adj2" fmla="val -9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 community waiting to ha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267080"/>
            <a:ext cx="2514600" cy="838440"/>
          </a:xfrm>
          <a:prstGeom prst="cloudCallout">
            <a:avLst>
              <a:gd name="adj1" fmla="val -55680"/>
              <a:gd name="adj2" fmla="val 7215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Isolated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he structure of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2400" y="359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0080" y="2603520"/>
            <a:ext cx="5257800" cy="3505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517920"/>
            <a:ext cx="2361960" cy="1600200"/>
          </a:xfrm>
          <a:prstGeom prst="ellipse">
            <a:avLst/>
          </a:prstGeom>
          <a:solidFill>
            <a:srgbClr val="d8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3898800"/>
            <a:ext cx="838080" cy="762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1308240"/>
            <a:ext cx="4572000" cy="1263240"/>
            <a:chOff x="560520" y="1308240"/>
            <a:chExt cx="4572000" cy="1263240"/>
          </a:xfrm>
        </p:grpSpPr>
        <p:sp>
          <p:nvSpPr>
            <p:cNvPr id="261" name=""/>
            <p:cNvSpPr/>
            <p:nvPr/>
          </p:nvSpPr>
          <p:spPr>
            <a:xfrm>
              <a:off x="914400" y="1333440"/>
              <a:ext cx="228600" cy="228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1689120"/>
              <a:ext cx="228600" cy="228600"/>
            </a:xfrm>
            <a:prstGeom prst="rect">
              <a:avLst/>
            </a:prstGeom>
            <a:solidFill>
              <a:srgbClr val="d8c1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084400"/>
              <a:ext cx="22860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1308240"/>
              <a:ext cx="4572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7640" bIns="1764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re Group: 10-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Active: 15-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eripheral: 65-75% (An essential dimension of communities of pract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7080" y="62485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8280" y="1174320"/>
            <a:ext cx="8074080" cy="4543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riv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problems quic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recruit &amp; retain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-fertilize ideas, increase opportunities for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organisational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into employee taci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s knowledge sharing natural, not 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common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professional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individ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people do their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 sense of community bonds within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people to keep up to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challenges and opportunities to con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8200" y="596412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hat’s in it for m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1640" y="2538360"/>
            <a:ext cx="172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t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8280" y="3200400"/>
            <a:ext cx="207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Putting names to 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55520" y="2262240"/>
            <a:ext cx="175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7560" y="28195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Improve my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657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w ideas and persp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160" y="369396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Comrade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6360" y="23623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develop my care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9880" y="333684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Waste less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38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ed to write a training evaluation plan for my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267080"/>
            <a:ext cx="3200400" cy="1371600"/>
          </a:xfrm>
          <a:prstGeom prst="ellipse">
            <a:avLst/>
          </a:prstGeom>
          <a:noFill/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4495680"/>
            <a:ext cx="556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33"/>
                </a:solidFill>
                <a:latin typeface="Univers"/>
              </a:rPr>
              <a:t>Task needs play a key role in driving individual participation and organisational learning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14280" y="1619280"/>
          <a:ext cx="815508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14280" y="1619280"/>
                    <a:ext cx="8155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8440" y="6102360"/>
            <a:ext cx="73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“Communities of Practice:  The Organizational Frontier,  by Etienne Wen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1-27T19:07:48Z</dcterms:modified>
  <cp:revision>628</cp:revision>
  <dc:subject/>
  <dc:title>EP Sample High Level Content Specification </dc:title>
</cp:coreProperties>
</file>